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F37-E77E-44A4-97E4-0168B2DD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EC0-390B-4954-9327-F5690AA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4F7-0CC1-40EA-9682-838C3C76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127-607C-46C2-A8FD-C130969B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33C-5D1F-42BE-B04E-5103C19A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56B-B4CA-409F-9936-2399DF97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2BE-A95E-4BC1-AE09-6C7E42AB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D80-6C26-4C6F-92D5-A0BBFD23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58D-063B-47ED-B7FC-53813583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DDD-7A4B-4814-9F6A-ADC8B6ED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EA9-A6D6-4B89-8F25-4AC9DBD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FBA-80B8-4FFD-83B1-160B719F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BC8-C1A0-4E5C-8C05-0DD5A56402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ニ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神長浩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4B9-1DE0-4AC6-8981-176ADA735D7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結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通常の起動時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76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6.38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mpl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910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10.24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88480" y="5780160"/>
            <a:ext cx="42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susp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開始時間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74 [sec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5C0-2DB5-49C4-9F55-FDF1D06657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/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比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バージョンが異なるので比較が出来ない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/linux2.6.11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イメージが小さい＆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起動が早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/linux2.6.14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イメージ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ZF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圧縮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有効だが、起動時間とのトレードオ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-2.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なので、まだ不安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F57-D954-4CEA-849B-FEAA18E21C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/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比較：（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イメージサイズ／処理時間で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: 925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:     889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36E-1911-406A-A485-591724ECA2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作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v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, compression, UI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など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拡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主な処理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行い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への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変更を最小限にとどめることが目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September/00131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3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6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DCC-3F97-417E-AD76-9FB77CFBC9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（ＭＬダイジェスト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6.16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位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部分を入れた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もし入るならば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H/FC 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分岐するだろう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3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ev/me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使う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kit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阻止する為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ev/me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制限をかけているの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ave Jone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（以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3 vs security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議論白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/compression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行う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方が直感的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fael J. Wysock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85A-8136-468C-9983-F76FBD8F85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（ＭＬダイジェスト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はそれら機能が入っているぞ、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ダブルエフォートだぞ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umitru Ciobarcian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実装するのは違う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v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疑うのか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g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は一緒にする為に彼が何をしなければならないのか分かってい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reg K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何で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正しい場所だと思うのか分からな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ig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152-AB6E-440E-AB4F-6E92319C5A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（ＭＬダイジェスト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0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行程度し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変更が無い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現在のままで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g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コード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in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は入らない事を自覚し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reg K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以降議論白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F31-3DF6-430E-9314-3AE48C970A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3D0-B1FC-4F75-9195-A58A2A6748B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目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プリケーション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(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到達するまでに行われる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イメージの転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ダイナミック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グローバルコンストラク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システム全体を稼動する為のアプリケーション間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13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ＨＷ初期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7800" y="21463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ウン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3840" y="327816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9392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の起動時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アプリケーションの起動時間を短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C4C-E914-4A0E-BD19-04153B0664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バニラカーネルに含まれてい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FDC-5B95-433D-A88F-ED2FFAEA9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（比較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82960" y="14842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5948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出典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818-9B55-49DF-81A1-5BBA7C9B89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現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ティングを行っ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に投稿した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次期リリースに反映される予定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800" y="3735360"/>
            <a:ext cx="80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suspend2.net/lurker/message/20051114.094040.11261d0e.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499-2633-49E2-A63B-8955565538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環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ターゲットボ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書き込み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8BB-35F0-4969-8947-7A3C56F3B3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評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4 + Suspend2-2.2-rc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ログイン状態か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時間測定にカーネル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k tim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用い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oot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立ち上がる時刻が基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nuconfig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3A9-2F69-4FA1-BBC2-96E732A249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結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通常の起動時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18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有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49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371 M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.450 MB 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圧縮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無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99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54640" y="580536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処理開始時間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402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8160" y="5492880"/>
            <a:ext cx="33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起動時間差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0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E03-3E5C-44A9-8EDE-2DDF05091C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評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時間測定にカーネル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k tim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用い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oot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から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立ち上がる時刻をゼ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menuconfig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226-479D-4D72-9C9C-C23D19BF26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5-11-24T09:13:18Z</dcterms:modified>
  <cp:revision>3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